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65E7-0DC8-4F44-87FD-AC7896D38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, the origin of new species, is at the focal point of Darwin’s evolutionary the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theory must explain how new species originate and how populations ev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consists of adaptations that evolve within a population, confined to one gene 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refers to evolutionary change above the species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, the origin of new species, is at the focal point of Darwin’s evolutionary the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theory must explain how new species originate and how populations ev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consists of adaptations that evolve within a population, confined to one gene p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refers to evolutionary change above the species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-dwelling Thamnop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-dwelling Thamnop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Thamnop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Thamnop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 Isolation: Species that breed at different times of the day, different seasons, or different years cannot mix their game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: Courtship rituals and other behaviors unique to a species are effective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 Morphological differences can prevent successful m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 isolation: Sperm of one species may not be able to fertilize eggs of another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 Isolation: Species that breed at different times of the day, different seasons, or different years cannot mix their game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: Courtship rituals and other behaviors unique to a species are effective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 Morphological differences can prevent successful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 isolation: Sperm of one species may not be able to fertilize eggs of another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 Occurs Without Appropriate Mating Rit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ship ritual of blue-footed boo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 Occurs Without Appropriate Mating Rit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ship ritual of blue-footed boo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dybaena with shells spiraling in opposite dir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dybaena with shells spiraling in opposite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barriers prevent the hybrid zygote from developing into a viable, fertile adul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 viability -- weak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 fertility -- steril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break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zygotic barriers prevent the hybrid zygote from developing into a viable, fertile ad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duced hybrid viability -- weak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duced hybrid fertility -- steril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brid break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e:  sterile hybrid offspring between horse and don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e:  sterile hybrid offspring between horse and don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efinitions of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cannot be applied to fossils or asexual organisms (including all prokary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pecies concepts emphasize the unity within a species rather than the separateness of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ical species concept defines a species by structural featur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but relies on subjective cri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efinitions of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cannot be applied to fossils or asexual organisms (including all prokaryot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pecies concepts emphasize the unity within a species rather than the separateness of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ical species concept defines a species by structural featur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but relies on subjective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species concept views a species in terms of its ecological niche.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and emphasizes the role of disruptive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ylogenetic species concept: defines a species as the smallest group of individuals on a phylogenetic tree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, but it can be difficult to determine the degree of difference required for separate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species concept views a species in terms of its ecological niche.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and emphasizes the role of disruptive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ylogenetic species concept: defines a species as the smallest group of individuals on a phylogenetic tree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, but it can be difficult to determine the degree of difference required for separate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2: Speciation can take place with or without geographic sepa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can occur in two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:  geographic barrier separates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no geographic 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2: Speciation can take place with or without geographic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can occur in two way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:  geographic barrier separates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no geographic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alápagos Islands Darwin discovered plants and animals found nowhere else on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alápagos Islands Darwin discovered plants and animals found nowhere else on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ym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llo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ym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(“Other Country”)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ne flow is interrupted or 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when a population is divided into geographically isolated subpopulations … A geographic barrier separates the original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 populations may evolve independently through mutation, natural selection, and genetic dri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between populations generally increases as the distance between them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s to reproduction are intrinsic; separation itself is not a biological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(“Other Country”)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ne flow is interrupted or 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when a population is divided into geographically isolated subpopulations … A geographic barrier separates the original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 populations may evolve independently through mutation, natural selection, and genetic dri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between populations generally increases as the distance between them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s to reproduction are intrinsic; separation itself is not a biological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harr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leucu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harri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leuc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al Drift Caused Allopatric Spec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tell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dagascar only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acophor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dia/South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): 31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ast As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years ago (my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al Drift Caused Allopatric Speci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tellin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dagascar only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acophorin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dia/South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): 310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ast A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years ago (my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(“Same Country”)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speciation takes place in geographically overlapping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the presence of extra sets of chromosomes due to accidents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utopolyploid is an individual with more than two chromosome sets, derived from 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lopolyploid is a species with multiple sets of chromosomes derived from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common in plants. Many important crops (oats, cotton, potatoes, tobacco, and wheat) are polypl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(“Same Country”)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speciation takes place in geographically overlapping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the presence of extra sets of chromosomes due to accidents during cell divi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utopolyploid is an individual with more than two chromosome sets, derived from 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lopolyploid is a species with multiple sets of chromosomes derived from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common in plants. Many important crops (oats, cotton, potatoes, tobacco, and wheat) are polyplo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via Polyploidy is Common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ur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lication g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 to tetra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iploi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tra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yotypes m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iabl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via Polyploidy is Common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ure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lication 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 to tetra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iploi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tra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yotypes 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iabl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- Polyploidy --&gt; Allopoly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 fer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lopolypl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- Polyploidy --&gt; Allo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 fer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lopolypl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 Habitat Differentiation and Sexu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also result from the appearance of new ecological nic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he North American maggot fly can live on native hawthorn trees as well as more recently introduced apple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can drive sympatric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for mates of different colors has likely contributed to the speciation in cichlid fish in Lake Victo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 Habitat Differentiation and Sexu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also result from the appearance of new ecological ni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he North American maggot fly can live on native hawthorn trees as well as more recently introduced apple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can drive sympatric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for mates of different colors has likely contributed to the speciation in cichlid fish in Lake Victor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and Sympatric Speciation May Cause Reproductive Isolation: 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ographic separation restricts gene flow between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may then arise by natural selection, genetic drift, or sexual selection in the isolated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contact is restored between populations, interbreeding is preven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a reproductive barrier isolates a subset of a population without geographic separation from the pa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result from polyploidy, natural selection, or sexual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and Sympatric Speciation May Cause Reproductive Isolation: A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ographic separation restricts gene flow between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may then arise by natural selection, genetic drift, or sexual selection in the isolated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contact is restored between populations, interbreeding is preven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a reproductive barrier isolates a subset of a population without geographic separation from the pa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result from polyploidy, natural selection, or sexual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is a region in which members of different species mate and produce hybr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can occur in a single band where adjacent species m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often have reduced fitness compared with pa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hybrid zones can be more complex if parent species are found in multiple habitats within the same re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is a region in which members of different species mate and produce hybr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can occur in a single band where adjacent species m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often have reduced fitness compared with pa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hybrid zones can be more complex if parent species are found in multiple habitats within the same reg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emphasizes reproductive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sts compare morphology, physiology, biochemistry, and DNA sequences when group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states that a species is a group of populations whose members have the potential to interbreed in nature and produce viable, fertile offspring; they do not breed successfully with other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emphasizes reproductive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sts compare morphology, physiology, biochemistry, and DNA sequences when grouping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states that a species is a group of populations whose members have the potential to interbreed in nature and produce viable, fertile offspring; they do not breed successfully with other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 toa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varieg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 toa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bomb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 (log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ybrid zone center (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 toa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varieg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 toa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bomb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 (log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ybrid zone center 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losely related species meet in a hybrid zone, there are three possible outco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-- Strengthening of reproductive barriers reducing gene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-- Weakening of reproductive barriers with eventual fusion into 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-- Continued formation of hybrid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losely related species meet in a hybrid zone, there are three possible outcom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-- Strengthening of reproductive barriers reducing gene f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-- Weakening of reproductive barriers with eventual fusion into 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-- Continued formation of hybrid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ive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h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ed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co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ene flow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ybrid individu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ive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h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ed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com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ene flow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ybrid individu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 Course of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 patterns in speciation can be studied using the fossil record, morphological data, or molecular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record includes examples of species that appear suddenly, persist essentially unchanged for some time, and then apparently dis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les Eldredge and Stephen Jay Gould coined the term punctuated equilibrium to describe periods of apparent stasis (no change) punctuated by brief periods of rapid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nctuated equilibrium model contrasts with a Darwinian model of gradualism:  slow continuous change over time in a species’ exis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 Course of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 patterns in speciation can be studied using the fossil record, morphological data, or molecular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record includes examples of species that appear suddenly, persist essentially unchanged for some time, and then apparently disapp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les Eldredge and Stephen Jay Gould coined the term punctuated equilibrium to describe periods of apparent stasis (no change) punctuated by brief periods of rapid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nctuated equilibrium model contrasts with a Darwinian model of gradualism:  slow continuous change over time in a species’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in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ctuated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ism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 /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in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ctuated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ism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 / 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Genetics of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losion of genomics is enabling researchers to identify specific genes involved in some cases of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the species in question, speciation might require the change of only a single allele or many all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peciation to Macroev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Genetics of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losion of genomics is enabling researchers to identify specific genes involved in some cases of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the species in question, speciation might require the change of only a single allele or many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peciation to Macroev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peciation 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Original popul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llopatric 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ympatric 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 spe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ti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oc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ti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BB 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 aesti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ead wh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 tausch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ncestral species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monococ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A BB D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. aestiv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bread wheat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42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. tauschii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cuss the limitations of the four species concep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d provide examples of prezygotic and postzygotic reproductive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and provide examples of allopatric and sympatric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polyploidy can cause reproductive iso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 hybrid zone and describe three outcomes for hybrid zones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cuss the limitations of the four species concep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d provide examples of prezygotic and postzygotic reproductive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and provide examples of allopatric and sympatric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polyploidy can cause reproductive iso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 hybrid zone and describe three outcomes for hybrid zones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Similarity between different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versity within a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Similarity between different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versity within 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Between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 gene tree for population pair A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1 is more closely relat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2, 3, and 4 tha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Gene flow occu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 are more clos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one another tha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in population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No gene flow occu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et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to accoun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(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-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-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-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–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Between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 gene tree for population pair A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1 is more closely relat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2, 3, and 4 tha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Gene flow occu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 are more clos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one another tha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in populatio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No gene flow occu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et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to accou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-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-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–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 =  Barriers to Interbree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is the existence of biological factors (barriers) that impede two different species from producing viable, fertile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are the offspring of crosses between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can be classified by whether factors act before or after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 =  Barriers to Interbree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is the existence of biological factors (barriers) that impede two different species from producing viable, fertile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are the offspring of crosses between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can be classified by whether factors act before or after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block fertilization from occurring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ding different species from attempting to m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the successful completion of m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dering fertilization if mating is success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maintain reproductive isolation and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, Habitat, Behavioral, Mechanical, and Gamete Iso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block fertilization from occurring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ding different species from attempting to m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the successful completion of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dering fertilization if mating is success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maintain reproductive isolation an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, Habitat, Behavioral, Mechanical, and Gamete Iso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m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: Two species encounter each other rarely, or not at all, because they occupy different habitats, even though not isolated by physical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: Two species encounter each other rarely, or not at all, because they occupy different habitats, even though not isolated by physical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2160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1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2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3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4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5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6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0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1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3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94760" y="1218960"/>
            <a:ext cx="853452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origin of new species, is at the focal point of Darwin’s evolutionary theor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olutionary theory must explain how new species originate and how populations evol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icroevolu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nsists of adaptations that evolve within a population, confined to one gene po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s to evolutionary change above the species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1" descr="24_04cReproBarriersHabA-U"/>
          <p:cNvPicPr/>
          <p:nvPr/>
        </p:nvPicPr>
        <p:blipFill>
          <a:blip r:embed="rId1"/>
          <a:stretch/>
        </p:blipFill>
        <p:spPr>
          <a:xfrm>
            <a:off x="2057400" y="685800"/>
            <a:ext cx="4919760" cy="54928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2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2327400" y="844560"/>
            <a:ext cx="428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2124000" y="5657760"/>
            <a:ext cx="42642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-dwell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amnop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24_04dReproBarriersHabB-U"/>
          <p:cNvPicPr/>
          <p:nvPr/>
        </p:nvPicPr>
        <p:blipFill>
          <a:blip r:embed="rId1"/>
          <a:stretch/>
        </p:blipFill>
        <p:spPr>
          <a:xfrm>
            <a:off x="2763720" y="1082520"/>
            <a:ext cx="3614760" cy="47674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2924280" y="1174680"/>
            <a:ext cx="428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809800" y="5315040"/>
            <a:ext cx="3387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restri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amnop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05920" y="1176480"/>
            <a:ext cx="853452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Tempor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pecies that breed at different times of the day, different seasons, or different years cannot mix their game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Behavior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Courtship rituals and other behaviors unique to a species are effective barri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Mechanic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Morphological differences can prevent successful ma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Gametic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perm of one species may not be able to fertilize eggs of another spe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57200" y="266400"/>
            <a:ext cx="73915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re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24_04gReproBarriersBehE-U"/>
          <p:cNvPicPr/>
          <p:nvPr/>
        </p:nvPicPr>
        <p:blipFill>
          <a:blip r:embed="rId1"/>
          <a:stretch/>
        </p:blipFill>
        <p:spPr>
          <a:xfrm>
            <a:off x="1819440" y="558720"/>
            <a:ext cx="5505120" cy="58165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6"/>
          <p:cNvSpPr/>
          <p:nvPr/>
        </p:nvSpPr>
        <p:spPr>
          <a:xfrm>
            <a:off x="152280" y="0"/>
            <a:ext cx="8763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Behavioral Isol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s Without Appropriate Mating Rit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797520" y="730080"/>
            <a:ext cx="428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857240" y="5543640"/>
            <a:ext cx="57628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rtship ritual of blue-footed boob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24_04hReproBarriersMecF-U"/>
          <p:cNvPicPr/>
          <p:nvPr/>
        </p:nvPicPr>
        <p:blipFill>
          <a:blip r:embed="rId1"/>
          <a:stretch/>
        </p:blipFill>
        <p:spPr>
          <a:xfrm>
            <a:off x="938160" y="174600"/>
            <a:ext cx="7267680" cy="65851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6"/>
          <p:cNvSpPr/>
          <p:nvPr/>
        </p:nvSpPr>
        <p:spPr>
          <a:xfrm>
            <a:off x="228600" y="380880"/>
            <a:ext cx="7315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120680" y="285840"/>
            <a:ext cx="428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609480" y="5607000"/>
            <a:ext cx="85345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Mechanical Iso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adybae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 shells spiraling in opposite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17080" y="1176120"/>
            <a:ext cx="85345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Postzygotic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rri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vent the hybrid zygote from developing into a viable, fertile adul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hybrid viability -- </a:t>
            </a:r>
            <a:r>
              <a:rPr b="0" lang="en-US" sz="2800" spc="-1" strike="noStrike">
                <a:solidFill>
                  <a:srgbClr val="f61a29"/>
                </a:solidFill>
                <a:latin typeface="Arial"/>
              </a:rPr>
              <a:t>weak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hybrid fertility -- </a:t>
            </a:r>
            <a:r>
              <a:rPr b="0" lang="en-US" sz="2800" spc="-1" strike="noStrike">
                <a:solidFill>
                  <a:srgbClr val="f61a29"/>
                </a:solidFill>
                <a:latin typeface="Arial"/>
              </a:rPr>
              <a:t>sterile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break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177480"/>
            <a:ext cx="91440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ost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6" descr="24_04oReproBarriersFerK-U"/>
          <p:cNvPicPr/>
          <p:nvPr/>
        </p:nvPicPr>
        <p:blipFill>
          <a:blip r:embed="rId1"/>
          <a:stretch/>
        </p:blipFill>
        <p:spPr>
          <a:xfrm>
            <a:off x="1219320" y="533520"/>
            <a:ext cx="6657840" cy="5908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152280" y="0"/>
            <a:ext cx="6553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PostZygot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oductive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B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1552680" y="692280"/>
            <a:ext cx="428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304920" y="5873760"/>
            <a:ext cx="7848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e:  </a:t>
            </a: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ster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ybrid offspring between horse and don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Other Definitions of Speci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16000" y="990360"/>
            <a:ext cx="8534160" cy="55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iological species concept cannot be applied to fossils or asexual organisms (including all prokaryot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species concepts emphasize the unity within a species rather than the separateness of diffe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orphological species concep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s a species by structural feature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 but relies on subjective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17080" y="990360"/>
            <a:ext cx="8534520" cy="54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ecological species concep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iews a species in terms of its ecological niche.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 and emphasizes the role of disruptive s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phylogenetic species concep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defines a species as the smallest group of individuals on a phylogenetic tree.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, but it can be difficult to determine the degree of difference required for separate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4.2: Speciation can take place with or without geographic separ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24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occur in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two way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Allopa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ation:  geographic barrier separates pop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Sympa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ation: no geographic b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5" descr="24_01FlightlessCormorant-U"/>
          <p:cNvPicPr/>
          <p:nvPr/>
        </p:nvPicPr>
        <p:blipFill>
          <a:blip r:embed="rId1"/>
          <a:stretch/>
        </p:blipFill>
        <p:spPr>
          <a:xfrm>
            <a:off x="297000" y="235080"/>
            <a:ext cx="8548560" cy="6565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6"/>
          <p:cNvSpPr/>
          <p:nvPr/>
        </p:nvSpPr>
        <p:spPr>
          <a:xfrm>
            <a:off x="152280" y="0"/>
            <a:ext cx="8686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1a29"/>
                </a:solidFill>
                <a:latin typeface="Arial"/>
              </a:rPr>
              <a:t>In the Galápagos Islands Darwin discovered plants and animals found nowhere else on Earth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8" descr="24_05AlloSymSpeciation-U"/>
          <p:cNvPicPr/>
          <p:nvPr/>
        </p:nvPicPr>
        <p:blipFill>
          <a:blip r:embed="rId1"/>
          <a:stretch/>
        </p:blipFill>
        <p:spPr>
          <a:xfrm>
            <a:off x="1008000" y="174600"/>
            <a:ext cx="7128000" cy="65851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9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pe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1082520" y="6299280"/>
            <a:ext cx="26384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Allopat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4746600" y="6305400"/>
            <a:ext cx="27208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llopatric (“Other Country”)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05920" y="1066320"/>
            <a:ext cx="8534520" cy="735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gene flow is interrupted or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cumulative effect of many speciation and extinction ev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d when a population is divided into geographically isolated subpopulations … A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geographic barri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eparates the original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eparate popul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y evolve independently through mutation, natural selection, and genetic drif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tween populations generally increases as the distance between them increa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rriers to reproduction are intrinsic; separation itself is not a biological barri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7" descr="24_06AlloSpeciaGCanyon-U"/>
          <p:cNvPicPr/>
          <p:nvPr/>
        </p:nvPicPr>
        <p:blipFill>
          <a:blip r:embed="rId1"/>
          <a:stretch/>
        </p:blipFill>
        <p:spPr>
          <a:xfrm>
            <a:off x="297000" y="2079720"/>
            <a:ext cx="8548560" cy="27734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8"/>
          <p:cNvSpPr/>
          <p:nvPr/>
        </p:nvSpPr>
        <p:spPr>
          <a:xfrm>
            <a:off x="152280" y="0"/>
            <a:ext cx="762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498600" y="3924360"/>
            <a:ext cx="10252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. harr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7292880" y="3930480"/>
            <a:ext cx="1247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. leucu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7" descr="24_07-AlloSpeciaFrogs-U"/>
          <p:cNvPicPr/>
          <p:nvPr/>
        </p:nvPicPr>
        <p:blipFill>
          <a:blip r:embed="rId1"/>
          <a:stretch/>
        </p:blipFill>
        <p:spPr>
          <a:xfrm>
            <a:off x="365040" y="200160"/>
            <a:ext cx="8413920" cy="6584760"/>
          </a:xfrm>
          <a:prstGeom prst="rect">
            <a:avLst/>
          </a:prstGeom>
          <a:ln w="0">
            <a:noFill/>
          </a:ln>
        </p:spPr>
      </p:pic>
      <p:sp>
        <p:nvSpPr>
          <p:cNvPr id="267" name="Oval 8"/>
          <p:cNvSpPr/>
          <p:nvPr/>
        </p:nvSpPr>
        <p:spPr>
          <a:xfrm>
            <a:off x="5526000" y="4809960"/>
            <a:ext cx="247680" cy="23364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"/>
          <p:cNvSpPr/>
          <p:nvPr/>
        </p:nvSpPr>
        <p:spPr>
          <a:xfrm>
            <a:off x="3255840" y="480708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0"/>
          <p:cNvSpPr/>
          <p:nvPr/>
        </p:nvSpPr>
        <p:spPr>
          <a:xfrm>
            <a:off x="1017720" y="479736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1"/>
          <p:cNvSpPr/>
          <p:nvPr/>
        </p:nvSpPr>
        <p:spPr>
          <a:xfrm>
            <a:off x="2833560" y="4162320"/>
            <a:ext cx="247680" cy="23364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2"/>
          <p:cNvSpPr/>
          <p:nvPr/>
        </p:nvSpPr>
        <p:spPr>
          <a:xfrm>
            <a:off x="2368440" y="415440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3"/>
          <p:cNvSpPr/>
          <p:nvPr/>
        </p:nvSpPr>
        <p:spPr>
          <a:xfrm>
            <a:off x="1351080" y="415440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152280" y="0"/>
            <a:ext cx="8153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Continental Drif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</a:t>
            </a: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 Allopatric Speci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635800" y="507960"/>
            <a:ext cx="18572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tellin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adagascar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5629320" y="1593720"/>
            <a:ext cx="17812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hacophorin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dia/Southe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ia): 310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5635800" y="2673360"/>
            <a:ext cx="161604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Indi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theast As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8"/>
          <p:cNvSpPr/>
          <p:nvPr/>
        </p:nvSpPr>
        <p:spPr>
          <a:xfrm>
            <a:off x="1660680" y="4397400"/>
            <a:ext cx="26701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lions of years ago (my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1415880" y="416088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0"/>
          <p:cNvSpPr/>
          <p:nvPr/>
        </p:nvSpPr>
        <p:spPr>
          <a:xfrm>
            <a:off x="2444760" y="416412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1"/>
          <p:cNvSpPr/>
          <p:nvPr/>
        </p:nvSpPr>
        <p:spPr>
          <a:xfrm>
            <a:off x="2909880" y="416412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2"/>
          <p:cNvSpPr/>
          <p:nvPr/>
        </p:nvSpPr>
        <p:spPr>
          <a:xfrm>
            <a:off x="1085760" y="4813200"/>
            <a:ext cx="954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3332160" y="481500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4"/>
          <p:cNvSpPr/>
          <p:nvPr/>
        </p:nvSpPr>
        <p:spPr>
          <a:xfrm>
            <a:off x="5600880" y="4813200"/>
            <a:ext cx="9504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679320" y="3889440"/>
            <a:ext cx="370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6"/>
          <p:cNvSpPr/>
          <p:nvPr/>
        </p:nvSpPr>
        <p:spPr>
          <a:xfrm>
            <a:off x="1654200" y="3897360"/>
            <a:ext cx="239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2590920" y="3895560"/>
            <a:ext cx="2397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8"/>
          <p:cNvSpPr/>
          <p:nvPr/>
        </p:nvSpPr>
        <p:spPr>
          <a:xfrm>
            <a:off x="3548160" y="3897360"/>
            <a:ext cx="239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9"/>
          <p:cNvSpPr/>
          <p:nvPr/>
        </p:nvSpPr>
        <p:spPr>
          <a:xfrm>
            <a:off x="4473720" y="3895560"/>
            <a:ext cx="23940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0"/>
          <p:cNvSpPr/>
          <p:nvPr/>
        </p:nvSpPr>
        <p:spPr>
          <a:xfrm>
            <a:off x="5468760" y="3902040"/>
            <a:ext cx="125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1"/>
          <p:cNvSpPr/>
          <p:nvPr/>
        </p:nvSpPr>
        <p:spPr>
          <a:xfrm>
            <a:off x="1349280" y="6357960"/>
            <a:ext cx="709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8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2"/>
          <p:cNvSpPr/>
          <p:nvPr/>
        </p:nvSpPr>
        <p:spPr>
          <a:xfrm>
            <a:off x="3589200" y="6357960"/>
            <a:ext cx="70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3"/>
          <p:cNvSpPr/>
          <p:nvPr/>
        </p:nvSpPr>
        <p:spPr>
          <a:xfrm>
            <a:off x="5830920" y="6356520"/>
            <a:ext cx="709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6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4"/>
          <p:cNvSpPr/>
          <p:nvPr/>
        </p:nvSpPr>
        <p:spPr>
          <a:xfrm>
            <a:off x="7575480" y="4951440"/>
            <a:ext cx="4780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5"/>
          <p:cNvSpPr/>
          <p:nvPr/>
        </p:nvSpPr>
        <p:spPr>
          <a:xfrm flipV="1">
            <a:off x="6748560" y="5079960"/>
            <a:ext cx="803160" cy="3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6"/>
          <p:cNvSpPr/>
          <p:nvPr/>
        </p:nvSpPr>
        <p:spPr>
          <a:xfrm>
            <a:off x="7577280" y="5907240"/>
            <a:ext cx="118872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agas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7"/>
          <p:cNvSpPr/>
          <p:nvPr/>
        </p:nvSpPr>
        <p:spPr>
          <a:xfrm>
            <a:off x="6172200" y="6037200"/>
            <a:ext cx="1389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ympatric (“Same Country”)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05920" y="1164960"/>
            <a:ext cx="8534520" cy="69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speciation takes place in geographically overlapping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Polyploid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presence of extra sets of chromosomes due to accidents during cell divi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autopolyploi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n individual with more than two chromosome sets,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derived from one spec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allopolyploi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species with multiple sets of chromosomes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derived from different spec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ploidy is common in plants. Many important crops (oats, cotton, potatoes, tobacco, and wheat) are polyploi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4_10SymAutopolyploidy_3-U"/>
          <p:cNvPicPr/>
          <p:nvPr/>
        </p:nvPicPr>
        <p:blipFill>
          <a:blip r:embed="rId1"/>
          <a:stretch/>
        </p:blipFill>
        <p:spPr>
          <a:xfrm>
            <a:off x="297000" y="1719360"/>
            <a:ext cx="8548560" cy="34941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3"/>
          <p:cNvSpPr/>
          <p:nvPr/>
        </p:nvSpPr>
        <p:spPr>
          <a:xfrm>
            <a:off x="152280" y="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 Speci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Polyploid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m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33520" y="3152880"/>
            <a:ext cx="749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2921040" y="3152880"/>
            <a:ext cx="8888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1244520" y="3533760"/>
            <a:ext cx="187956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lure 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sion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plication g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e to tetrapl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ss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5460840" y="3127320"/>
            <a:ext cx="292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5156280" y="3533760"/>
            <a:ext cx="13208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diploid.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7620120" y="3152880"/>
            <a:ext cx="2919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7086600" y="3533760"/>
            <a:ext cx="171468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pring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trapl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ryotypes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viabl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t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24_11SymAllopolyploidy_4-U"/>
          <p:cNvPicPr/>
          <p:nvPr/>
        </p:nvPicPr>
        <p:blipFill>
          <a:blip r:embed="rId1"/>
          <a:stretch/>
        </p:blipFill>
        <p:spPr>
          <a:xfrm>
            <a:off x="297000" y="1778040"/>
            <a:ext cx="8548560" cy="337824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"/>
          <p:cNvSpPr/>
          <p:nvPr/>
        </p:nvSpPr>
        <p:spPr>
          <a:xfrm>
            <a:off x="152280" y="0"/>
            <a:ext cx="8839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 Speciation - Polyploidy --&gt; Allopolypl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322200" y="4545000"/>
            <a:ext cx="1028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es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2451240" y="4124160"/>
            <a:ext cx="7110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428840" y="2911320"/>
            <a:ext cx="73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io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61800" y="1774800"/>
            <a:ext cx="1028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es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228760" y="182556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re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4006800" y="2308320"/>
            <a:ext cx="144144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5759280" y="200340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re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5880240" y="4327560"/>
            <a:ext cx="7110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7397640" y="411156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able fert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llopolypl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Sympatric Speciation:  Habitat Differentiation and Sexual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also result from the appearance of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new ecological nich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the North American maggot fly can live on native hawthorn trees as well as more recently introduced apple tre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exual sele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drive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xual selection for mates of different colors has likely contributed to the speciation in cichlid fish in Lake Victori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llopatric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and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Sympatric Speciation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May Cause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Reproductive Isolation: 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 Review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05920" y="1066320"/>
            <a:ext cx="8534520" cy="735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geographic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epar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stricts gene flow between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y then arise by natural selection, genetic drift, or sexual selection in the isolated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 if contact is restored between populations, interbreeding is prevent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 reproductive barrier isolates a subset of a population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without geographic separ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the parent spe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mpatric speciation can result from polyploidy, natural selection, or sexual sele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17080" y="117648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ybrid zon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region in which members of different species mate and produce hybri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hybrid zone can occur in a single band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where adjacent species me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brids often have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reduced fitne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pared with pa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istribution of hybrid zones can be more complex if parent species are found in multiple habitats within the same reg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Biological Species Concept emphasizes reproductive iso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7080" y="1174320"/>
            <a:ext cx="853452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logists compare morphology, physiology, biochemistry, and DNA sequences when grouping organis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ological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oncep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s that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ec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group of populations whose members have the potential to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interbre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nature and produce viable,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fertile offspr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they do not breed successfully with other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7" descr="24_13-FrogHybridZone-U"/>
          <p:cNvPicPr/>
          <p:nvPr/>
        </p:nvPicPr>
        <p:blipFill>
          <a:blip r:embed="rId1"/>
          <a:stretch/>
        </p:blipFill>
        <p:spPr>
          <a:xfrm>
            <a:off x="297000" y="558720"/>
            <a:ext cx="8548560" cy="58165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8"/>
          <p:cNvSpPr/>
          <p:nvPr/>
        </p:nvSpPr>
        <p:spPr>
          <a:xfrm>
            <a:off x="152280" y="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Hybrid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1003320" y="1076400"/>
            <a:ext cx="55872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4743360" y="2714760"/>
            <a:ext cx="6796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-bell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ad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4197240" y="3038400"/>
            <a:ext cx="7495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ybrid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3753000" y="3336840"/>
            <a:ext cx="8762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llow-bell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ad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368280" y="3540240"/>
            <a:ext cx="119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llow-bellied toa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Bombina varieg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5962680" y="3139920"/>
            <a:ext cx="1193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-bellied toa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Bombina bomb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 rot="16200000">
            <a:off x="4101120" y="4632480"/>
            <a:ext cx="16765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lele frequency (log sca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5918040" y="5965920"/>
            <a:ext cx="23371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tance from hybrid zone center (k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533412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5816520" y="5788080"/>
            <a:ext cx="1652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9"/>
          <p:cNvSpPr/>
          <p:nvPr/>
        </p:nvSpPr>
        <p:spPr>
          <a:xfrm>
            <a:off x="6311880" y="5781600"/>
            <a:ext cx="1652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0"/>
          <p:cNvSpPr/>
          <p:nvPr/>
        </p:nvSpPr>
        <p:spPr>
          <a:xfrm>
            <a:off x="8248680" y="5788080"/>
            <a:ext cx="1652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1"/>
          <p:cNvSpPr/>
          <p:nvPr/>
        </p:nvSpPr>
        <p:spPr>
          <a:xfrm>
            <a:off x="681372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2"/>
          <p:cNvSpPr/>
          <p:nvPr/>
        </p:nvSpPr>
        <p:spPr>
          <a:xfrm>
            <a:off x="775980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3"/>
          <p:cNvSpPr/>
          <p:nvPr/>
        </p:nvSpPr>
        <p:spPr>
          <a:xfrm>
            <a:off x="7340760" y="5788080"/>
            <a:ext cx="1141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4"/>
          <p:cNvSpPr/>
          <p:nvPr/>
        </p:nvSpPr>
        <p:spPr>
          <a:xfrm>
            <a:off x="5060880" y="5572080"/>
            <a:ext cx="25416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137200" y="5108400"/>
            <a:ext cx="1904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5130720" y="4664160"/>
            <a:ext cx="1904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5137200" y="4219560"/>
            <a:ext cx="18396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5067360" y="3718080"/>
            <a:ext cx="241200" cy="1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Times New Roman"/>
              </a:rPr>
              <a:t>Hybrid Zones over Tim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05920" y="1165320"/>
            <a:ext cx="853452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closely related species meet in a hybrid zone, there are </a:t>
            </a:r>
            <a:r>
              <a:rPr b="0" i="1" lang="en-US" sz="3000" spc="-1" strike="noStrike">
                <a:solidFill>
                  <a:srgbClr val="f61a29"/>
                </a:solidFill>
                <a:latin typeface="Arial"/>
              </a:rPr>
              <a:t>three possible outcom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Reinforc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Strengthening of reproductive barriers reducing gene f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F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Weakening of reproductive barriers with eventual fusion into one spec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Stabiliz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Continued formation of hybrid individu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24_14HybrZoneOverTime_4-U"/>
          <p:cNvPicPr/>
          <p:nvPr/>
        </p:nvPicPr>
        <p:blipFill>
          <a:blip r:embed="rId1"/>
          <a:stretch/>
        </p:blipFill>
        <p:spPr>
          <a:xfrm>
            <a:off x="297000" y="1379520"/>
            <a:ext cx="8847000" cy="40384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3"/>
          <p:cNvSpPr/>
          <p:nvPr/>
        </p:nvSpPr>
        <p:spPr>
          <a:xfrm>
            <a:off x="152280" y="0"/>
            <a:ext cx="746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Hybrid Zone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933480" y="3863880"/>
            <a:ext cx="11430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336600" y="4562640"/>
            <a:ext cx="16635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five individua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re show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2476440" y="4352760"/>
            <a:ext cx="990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arrier 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7"/>
          <p:cNvSpPr/>
          <p:nvPr/>
        </p:nvSpPr>
        <p:spPr>
          <a:xfrm flipH="1">
            <a:off x="647640" y="3613320"/>
            <a:ext cx="209520" cy="95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1193760" y="3486240"/>
            <a:ext cx="209520" cy="36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9"/>
          <p:cNvSpPr/>
          <p:nvPr/>
        </p:nvSpPr>
        <p:spPr>
          <a:xfrm>
            <a:off x="2368440" y="3346560"/>
            <a:ext cx="362160" cy="9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1841400" y="1546200"/>
            <a:ext cx="19814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solated popul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iverg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1"/>
          <p:cNvSpPr/>
          <p:nvPr/>
        </p:nvSpPr>
        <p:spPr>
          <a:xfrm>
            <a:off x="2851200" y="2019240"/>
            <a:ext cx="323640" cy="62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5956200" y="2130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3"/>
          <p:cNvSpPr/>
          <p:nvPr/>
        </p:nvSpPr>
        <p:spPr>
          <a:xfrm>
            <a:off x="5952960" y="4086360"/>
            <a:ext cx="685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4"/>
          <p:cNvSpPr/>
          <p:nvPr/>
        </p:nvSpPr>
        <p:spPr>
          <a:xfrm>
            <a:off x="5613480" y="3759120"/>
            <a:ext cx="296640" cy="40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5"/>
          <p:cNvSpPr/>
          <p:nvPr/>
        </p:nvSpPr>
        <p:spPr>
          <a:xfrm flipV="1">
            <a:off x="5586480" y="2222280"/>
            <a:ext cx="349200" cy="35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6"/>
          <p:cNvSpPr/>
          <p:nvPr/>
        </p:nvSpPr>
        <p:spPr>
          <a:xfrm>
            <a:off x="6883560" y="762120"/>
            <a:ext cx="109188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7"/>
          <p:cNvSpPr/>
          <p:nvPr/>
        </p:nvSpPr>
        <p:spPr>
          <a:xfrm>
            <a:off x="6883560" y="2575080"/>
            <a:ext cx="15620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Reinforc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f gene flow barrie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7467480" y="3200400"/>
            <a:ext cx="482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9"/>
          <p:cNvSpPr/>
          <p:nvPr/>
        </p:nvSpPr>
        <p:spPr>
          <a:xfrm>
            <a:off x="7391520" y="4191120"/>
            <a:ext cx="55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6972480" y="3629160"/>
            <a:ext cx="723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Fusio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in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ne speci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6946920" y="4784760"/>
            <a:ext cx="85104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tabilit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inued 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f hybrid individual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2"/>
          <p:cNvSpPr/>
          <p:nvPr/>
        </p:nvSpPr>
        <p:spPr>
          <a:xfrm>
            <a:off x="6781680" y="1625760"/>
            <a:ext cx="0" cy="3530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Time Course of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05920" y="990360"/>
            <a:ext cx="8534520" cy="58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ad patterns in speciation can be studied using the fossil record, morphological data, or molecular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ssil record includes examples of species that appear suddenly, persist essentially unchanged for some time, and then apparently disapp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iles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Eldredg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Stephen Jay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Goul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ined the term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punctuated equilibrium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describe periods of apparent stasis (no change) punctuated by brief periods of rapid chan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unctuated equilibrium model contrasts with a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Darwini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odel of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gradualism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ow continuous change over time in a species’ existe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7" descr="24_17PunctuatedVsGradual-U"/>
          <p:cNvPicPr/>
          <p:nvPr/>
        </p:nvPicPr>
        <p:blipFill>
          <a:blip r:embed="rId1"/>
          <a:stretch/>
        </p:blipFill>
        <p:spPr>
          <a:xfrm>
            <a:off x="0" y="1143000"/>
            <a:ext cx="8845560" cy="48769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152280" y="0"/>
            <a:ext cx="8305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Patterns in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304920" y="1371600"/>
            <a:ext cx="247464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Punctuated</a:t>
            </a:r>
            <a:r>
              <a:rPr b="1" lang="en-US" sz="1800" spc="-1" strike="noStrike">
                <a:solidFill>
                  <a:srgbClr val="f61a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322200" y="4152960"/>
            <a:ext cx="20685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Graduali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2133720" y="2927520"/>
            <a:ext cx="1239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ange  / 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1920" y="83880"/>
            <a:ext cx="853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tudying the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Genetics of Speciation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xplosion of genomics is enabling researchers to identify specific genes involved in some cases of spec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pending on the species in question, speciation might require the change of only a single allele or many alle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8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34694"/>
                </a:solidFill>
                <a:latin typeface="Arial"/>
              </a:rPr>
              <a:t>From Speciation to Macroev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he cumulative effect of many speciation and extinction ev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8" descr="24_UN01SummaryAlloSym-U"/>
          <p:cNvPicPr/>
          <p:nvPr/>
        </p:nvPicPr>
        <p:blipFill>
          <a:blip r:embed="rId1"/>
          <a:stretch/>
        </p:blipFill>
        <p:spPr>
          <a:xfrm>
            <a:off x="1306440" y="174600"/>
            <a:ext cx="6529320" cy="658512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9"/>
          <p:cNvSpPr/>
          <p:nvPr/>
        </p:nvSpPr>
        <p:spPr>
          <a:xfrm>
            <a:off x="152280" y="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tion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0"/>
          <p:cNvSpPr/>
          <p:nvPr/>
        </p:nvSpPr>
        <p:spPr>
          <a:xfrm>
            <a:off x="3225960" y="208080"/>
            <a:ext cx="27921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rigin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1397160" y="6278400"/>
            <a:ext cx="29955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patric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4730760" y="6284880"/>
            <a:ext cx="30718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patric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24_UN02SIQWheat-U"/>
          <p:cNvPicPr/>
          <p:nvPr/>
        </p:nvPicPr>
        <p:blipFill>
          <a:blip r:embed="rId1"/>
          <a:stretch/>
        </p:blipFill>
        <p:spPr>
          <a:xfrm>
            <a:off x="1449360" y="174600"/>
            <a:ext cx="6243840" cy="658512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3"/>
          <p:cNvSpPr/>
          <p:nvPr/>
        </p:nvSpPr>
        <p:spPr>
          <a:xfrm>
            <a:off x="0" y="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1a29"/>
                </a:solidFill>
                <a:latin typeface="Arial"/>
              </a:rPr>
              <a:t>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1530360" y="208080"/>
            <a:ext cx="2055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cestral spe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1523880" y="2144880"/>
            <a:ext cx="1509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nococ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48904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457848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4464000" y="2157480"/>
            <a:ext cx="982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1523880" y="3821040"/>
            <a:ext cx="976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4444920" y="4849920"/>
            <a:ext cx="10652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A BB D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1"/>
          <p:cNvSpPr/>
          <p:nvPr/>
        </p:nvSpPr>
        <p:spPr>
          <a:xfrm>
            <a:off x="4422600" y="5384880"/>
            <a:ext cx="1509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aestiv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read wh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6534000" y="2131920"/>
            <a:ext cx="11988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tausch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664848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05920" y="1199880"/>
            <a:ext cx="853452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and discuss the limitations of the four species concep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and provide examples of prezygotic and postzygotic reproductive barri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inguish between and provide examples of allopatric and sympatric spec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polyploidy can cause reproductive iso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the term hybrid zone and describe three outcomes for hybrid zones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24_02-BioSpeciesConcept-U"/>
          <p:cNvPicPr/>
          <p:nvPr/>
        </p:nvPicPr>
        <p:blipFill>
          <a:blip r:embed="rId1"/>
          <a:stretch/>
        </p:blipFill>
        <p:spPr>
          <a:xfrm>
            <a:off x="2286000" y="174600"/>
            <a:ext cx="4572000" cy="65851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344680" y="1854360"/>
            <a:ext cx="4497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a) Similarity between different spec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306520" y="6273720"/>
            <a:ext cx="335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b) Diversity within a spec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24_03-BabblerGeneFlowInq-U"/>
          <p:cNvPicPr/>
          <p:nvPr/>
        </p:nvPicPr>
        <p:blipFill>
          <a:blip r:embed="rId1"/>
          <a:stretch/>
        </p:blipFill>
        <p:spPr>
          <a:xfrm>
            <a:off x="2416320" y="174600"/>
            <a:ext cx="4309920" cy="65851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9"/>
          <p:cNvSpPr/>
          <p:nvPr/>
        </p:nvSpPr>
        <p:spPr>
          <a:xfrm>
            <a:off x="2451240" y="3600360"/>
            <a:ext cx="1225440" cy="20340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2451240" y="654120"/>
            <a:ext cx="1218960" cy="21600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152280" y="0"/>
            <a:ext cx="358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Gene Flow Between Pop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529000" y="685800"/>
            <a:ext cx="922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63a84"/>
                </a:solidFill>
                <a:latin typeface="Arial"/>
              </a:rPr>
              <a:t>EXPERI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2529000" y="3619440"/>
            <a:ext cx="66816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63a84"/>
                </a:solidFill>
                <a:latin typeface="Arial"/>
              </a:rPr>
              <a:t>RESUL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2620800" y="961920"/>
            <a:ext cx="252288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xample of a gene tree for population pair A-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triangle_bullet"/>
          <p:cNvPicPr/>
          <p:nvPr/>
        </p:nvPicPr>
        <p:blipFill>
          <a:blip r:embed="rId2"/>
          <a:stretch/>
        </p:blipFill>
        <p:spPr>
          <a:xfrm>
            <a:off x="2506680" y="981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6"/>
          <p:cNvSpPr/>
          <p:nvPr/>
        </p:nvSpPr>
        <p:spPr>
          <a:xfrm>
            <a:off x="3833640" y="1174680"/>
            <a:ext cx="31932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237200" y="1174680"/>
            <a:ext cx="5252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2487600" y="1292400"/>
            <a:ext cx="79200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ne flow ev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3295800" y="1355760"/>
            <a:ext cx="171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3983040" y="13366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4338720" y="13399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4335480" y="25462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4338720" y="285120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4338720" y="31496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3986280" y="25462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3983040" y="28544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3983040" y="31528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3983040" y="165096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3983040" y="19526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0"/>
          <p:cNvSpPr/>
          <p:nvPr/>
        </p:nvSpPr>
        <p:spPr>
          <a:xfrm>
            <a:off x="3979800" y="22478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1"/>
          <p:cNvSpPr/>
          <p:nvPr/>
        </p:nvSpPr>
        <p:spPr>
          <a:xfrm>
            <a:off x="4338720" y="1647720"/>
            <a:ext cx="6516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4338720" y="19591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4338720" y="22543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4"/>
          <p:cNvSpPr/>
          <p:nvPr/>
        </p:nvSpPr>
        <p:spPr>
          <a:xfrm>
            <a:off x="4400640" y="1308240"/>
            <a:ext cx="152280" cy="1092240"/>
          </a:xfrm>
          <a:custGeom>
            <a:avLst/>
            <a:gdLst>
              <a:gd name="textAreaLeft" fmla="*/ 0 w 152280"/>
              <a:gd name="textAreaRight" fmla="*/ 55080 w 152280"/>
              <a:gd name="textAreaTop" fmla="*/ 28440 h 1092240"/>
              <a:gd name="textAreaBottom" fmla="*/ 10638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5"/>
          <p:cNvSpPr/>
          <p:nvPr/>
        </p:nvSpPr>
        <p:spPr>
          <a:xfrm>
            <a:off x="4400640" y="2540160"/>
            <a:ext cx="152280" cy="758520"/>
          </a:xfrm>
          <a:custGeom>
            <a:avLst/>
            <a:gdLst>
              <a:gd name="textAreaLeft" fmla="*/ 0 w 152280"/>
              <a:gd name="textAreaRight" fmla="*/ 55080 w 152280"/>
              <a:gd name="textAreaTop" fmla="*/ 19440 h 758520"/>
              <a:gd name="textAreaBottom" fmla="*/ 739080 h 75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4578480" y="1581120"/>
            <a:ext cx="18493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 1 is more closely related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2, 3, and 4 than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5, 6, and 7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erence: Gene flow occur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4576680" y="2658960"/>
            <a:ext cx="18954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5, 6, and 7 are more close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lated to one another than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in population 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erence: No gene flow occur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2608200" y="3941640"/>
            <a:ext cx="9032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i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pul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ith detec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9"/>
          <p:cNvSpPr/>
          <p:nvPr/>
        </p:nvSpPr>
        <p:spPr>
          <a:xfrm>
            <a:off x="3699000" y="3944880"/>
            <a:ext cx="14158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stimated minim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of gene fl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vents to account f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tic patter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0"/>
          <p:cNvSpPr/>
          <p:nvPr/>
        </p:nvSpPr>
        <p:spPr>
          <a:xfrm>
            <a:off x="5369040" y="4278240"/>
            <a:ext cx="1199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tance betwe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pulations (km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1"/>
          <p:cNvSpPr/>
          <p:nvPr/>
        </p:nvSpPr>
        <p:spPr>
          <a:xfrm>
            <a:off x="2849400" y="4719600"/>
            <a:ext cx="2239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-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2"/>
          <p:cNvSpPr/>
          <p:nvPr/>
        </p:nvSpPr>
        <p:spPr>
          <a:xfrm>
            <a:off x="2852640" y="4989600"/>
            <a:ext cx="2239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-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3"/>
          <p:cNvSpPr/>
          <p:nvPr/>
        </p:nvSpPr>
        <p:spPr>
          <a:xfrm>
            <a:off x="2841480" y="525780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-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4"/>
          <p:cNvSpPr/>
          <p:nvPr/>
        </p:nvSpPr>
        <p:spPr>
          <a:xfrm>
            <a:off x="2847960" y="552924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-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5"/>
          <p:cNvSpPr/>
          <p:nvPr/>
        </p:nvSpPr>
        <p:spPr>
          <a:xfrm>
            <a:off x="2855880" y="579600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-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6"/>
          <p:cNvSpPr/>
          <p:nvPr/>
        </p:nvSpPr>
        <p:spPr>
          <a:xfrm>
            <a:off x="2852640" y="606744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-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7"/>
          <p:cNvSpPr/>
          <p:nvPr/>
        </p:nvSpPr>
        <p:spPr>
          <a:xfrm>
            <a:off x="2855880" y="634212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-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8"/>
          <p:cNvSpPr/>
          <p:nvPr/>
        </p:nvSpPr>
        <p:spPr>
          <a:xfrm>
            <a:off x="4363920" y="472140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9"/>
          <p:cNvSpPr/>
          <p:nvPr/>
        </p:nvSpPr>
        <p:spPr>
          <a:xfrm>
            <a:off x="4359240" y="498492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0"/>
          <p:cNvSpPr/>
          <p:nvPr/>
        </p:nvSpPr>
        <p:spPr>
          <a:xfrm>
            <a:off x="4313160" y="5261040"/>
            <a:ext cx="2080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–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1"/>
          <p:cNvSpPr/>
          <p:nvPr/>
        </p:nvSpPr>
        <p:spPr>
          <a:xfrm>
            <a:off x="4373640" y="553248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2"/>
          <p:cNvSpPr/>
          <p:nvPr/>
        </p:nvSpPr>
        <p:spPr>
          <a:xfrm>
            <a:off x="4368960" y="5802480"/>
            <a:ext cx="968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3"/>
          <p:cNvSpPr/>
          <p:nvPr/>
        </p:nvSpPr>
        <p:spPr>
          <a:xfrm>
            <a:off x="4365720" y="606744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4"/>
          <p:cNvSpPr/>
          <p:nvPr/>
        </p:nvSpPr>
        <p:spPr>
          <a:xfrm>
            <a:off x="4308480" y="6335640"/>
            <a:ext cx="2030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–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5"/>
          <p:cNvSpPr/>
          <p:nvPr/>
        </p:nvSpPr>
        <p:spPr>
          <a:xfrm>
            <a:off x="5883120" y="4724280"/>
            <a:ext cx="23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4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6"/>
          <p:cNvSpPr/>
          <p:nvPr/>
        </p:nvSpPr>
        <p:spPr>
          <a:xfrm>
            <a:off x="5880240" y="4991040"/>
            <a:ext cx="2314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7"/>
          <p:cNvSpPr/>
          <p:nvPr/>
        </p:nvSpPr>
        <p:spPr>
          <a:xfrm>
            <a:off x="5784840" y="5257800"/>
            <a:ext cx="3459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39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8"/>
          <p:cNvSpPr/>
          <p:nvPr/>
        </p:nvSpPr>
        <p:spPr>
          <a:xfrm>
            <a:off x="5781600" y="5524560"/>
            <a:ext cx="3463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19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9"/>
          <p:cNvSpPr/>
          <p:nvPr/>
        </p:nvSpPr>
        <p:spPr>
          <a:xfrm>
            <a:off x="5783400" y="6068880"/>
            <a:ext cx="34596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1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0"/>
          <p:cNvSpPr/>
          <p:nvPr/>
        </p:nvSpPr>
        <p:spPr>
          <a:xfrm>
            <a:off x="5888160" y="5796000"/>
            <a:ext cx="2314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1"/>
          <p:cNvSpPr/>
          <p:nvPr/>
        </p:nvSpPr>
        <p:spPr>
          <a:xfrm>
            <a:off x="5776920" y="6335640"/>
            <a:ext cx="3459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3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100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Reproductive Isolation  =  Barriers to Interbreeding 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05920" y="117648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existence of biological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facto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barriers)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that impede two different spec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rom producing viable, fertile offspr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ybrid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the offspring of crosses between diffe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oductive isolation can be classified by whether factors act before or after fertiliz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04480" y="1176480"/>
            <a:ext cx="85345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Prezygotic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rriers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block fertiliz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occurring b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ding different species from attempting to m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ng the successful completion of ma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dering fertilization if mating is success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Prezygotic barr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inta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productive 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Tempo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Habita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Behavio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Mechanic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Gamet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533520" y="139320"/>
            <a:ext cx="80010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61a29"/>
                </a:solidFill>
                <a:latin typeface="Arial"/>
              </a:rPr>
              <a:t>Reproductive Barriers Between Speci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9" descr="24_04-ReproBarriers-U"/>
          <p:cNvPicPr/>
          <p:nvPr/>
        </p:nvPicPr>
        <p:blipFill>
          <a:blip r:embed="rId1"/>
          <a:stretch/>
        </p:blipFill>
        <p:spPr>
          <a:xfrm>
            <a:off x="304920" y="1752480"/>
            <a:ext cx="8548560" cy="38102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0"/>
          <p:cNvSpPr/>
          <p:nvPr/>
        </p:nvSpPr>
        <p:spPr>
          <a:xfrm>
            <a:off x="152280" y="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Reproductive Barriers </a:t>
            </a:r>
            <a:r>
              <a:rPr b="1" lang="en-US" sz="2800" spc="-1" strike="noStrike">
                <a:solidFill>
                  <a:srgbClr val="034694"/>
                </a:solidFill>
                <a:latin typeface="Arial"/>
              </a:rPr>
              <a:t>Between</a:t>
            </a: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719440" y="1600200"/>
            <a:ext cx="696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Prezygotic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34694"/>
                </a:solidFill>
                <a:latin typeface="Arial"/>
              </a:rPr>
              <a:t>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457200" y="1905120"/>
            <a:ext cx="914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bit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309600" y="2289240"/>
            <a:ext cx="4460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538280" y="1905120"/>
            <a:ext cx="97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2563920" y="1981080"/>
            <a:ext cx="73188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havio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3297240" y="2374920"/>
            <a:ext cx="2746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em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3598920" y="1984320"/>
            <a:ext cx="73188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4761000" y="1987560"/>
            <a:ext cx="65880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me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5370480" y="2413080"/>
            <a:ext cx="439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5675400" y="1987560"/>
            <a:ext cx="92844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6726240" y="1987560"/>
            <a:ext cx="8938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2"/>
          <p:cNvSpPr/>
          <p:nvPr/>
        </p:nvSpPr>
        <p:spPr>
          <a:xfrm>
            <a:off x="6400800" y="1600200"/>
            <a:ext cx="11937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Postzygotic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34694"/>
                </a:solidFill>
                <a:latin typeface="Arial"/>
              </a:rPr>
              <a:t>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3"/>
          <p:cNvSpPr/>
          <p:nvPr/>
        </p:nvSpPr>
        <p:spPr>
          <a:xfrm>
            <a:off x="8077320" y="1981080"/>
            <a:ext cx="76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8447040" y="2349360"/>
            <a:ext cx="338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ab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rt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fsp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39852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a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398520" y="388620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b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7"/>
          <p:cNvSpPr/>
          <p:nvPr/>
        </p:nvSpPr>
        <p:spPr>
          <a:xfrm>
            <a:off x="1452600" y="362592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8"/>
          <p:cNvSpPr/>
          <p:nvPr/>
        </p:nvSpPr>
        <p:spPr>
          <a:xfrm>
            <a:off x="1449360" y="289260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9"/>
          <p:cNvSpPr/>
          <p:nvPr/>
        </p:nvSpPr>
        <p:spPr>
          <a:xfrm>
            <a:off x="3271680" y="289260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0"/>
          <p:cNvSpPr/>
          <p:nvPr/>
        </p:nvSpPr>
        <p:spPr>
          <a:xfrm>
            <a:off x="3525840" y="289548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f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469116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g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572616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h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3"/>
          <p:cNvSpPr/>
          <p:nvPr/>
        </p:nvSpPr>
        <p:spPr>
          <a:xfrm>
            <a:off x="6770520" y="290196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i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4"/>
          <p:cNvSpPr/>
          <p:nvPr/>
        </p:nvSpPr>
        <p:spPr>
          <a:xfrm>
            <a:off x="6773760" y="362592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j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781200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6773760" y="435276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k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17080" y="1176120"/>
            <a:ext cx="8534520" cy="20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wo species encounter each other rarely, or not at all, because they occupy different habitats, even though not isolated by physical barri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304920" y="393480"/>
            <a:ext cx="64008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re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1-23T05:28:16Z</cp:lastPrinted>
  <dcterms:modified xsi:type="dcterms:W3CDTF">2018-03-12T09:00:10Z</dcterms:modified>
  <cp:revision>791</cp:revision>
  <dc:subject/>
  <dc:title>video slide</dc:title>
</cp:coreProperties>
</file>